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5FBC-C70E-44F7-9131-833834CE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5F80-5A11-427C-9713-3F518593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907F-6CD9-4B7D-B12B-FEB2AF35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1A0D-27EE-434C-A019-D04640E3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C099-9BCD-4C77-A0F6-D84E68C3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1C54-5A13-4537-839B-EC56CA85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9BD9-9030-4BD4-8FED-8515ED81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0AC2-FB6F-4238-931A-A339FAE0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47C7-80D8-4293-BCD2-E754C20A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5553-3C6B-40A9-A9CD-40866F5C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2E9A-9194-43EF-A8C5-9EE38602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93ED-0665-49C5-9ECB-91A46781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47F9-6910-4D08-B3DE-29A33BE4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8AAB-D225-4511-9A98-D2151EF9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ED2F-70AF-46E1-9B6F-79C3F5A4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D7C9-9DBE-4D28-A2E4-231DDA37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29FE-ABB2-4C91-8BEB-295AAFA4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CCE3-6621-418A-A75D-6855548A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8E4C-A4EE-4AFE-A955-06D7C2A0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7103-82BE-4E08-8B7D-9570D286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6621-6A7D-452F-9BF4-86E21AAC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3AD6-36BB-46EC-8EEA-ECA84791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398D-F723-4AF0-A1A5-B97C294A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3D3D-4766-47EB-9FD2-A5476B79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45DF-18F2-4AD1-B1E0-E1DAEEE058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2C88-4584-47E8-817B-9745A75CAB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ife.uiuc.edu/bio100/lessons/cells_and_organelles.html" TargetMode="External"/><Relationship Id="rId2" Type="http://schemas.openxmlformats.org/officeDocument/2006/relationships/hyperlink" Target="http://kauai.cudenver.edu:3010/0/nutrition.dir/organelle.html" TargetMode="External"/><Relationship Id="rId3" Type="http://schemas.openxmlformats.org/officeDocument/2006/relationships/hyperlink" Target="http://esg-www.mit.edu:8001/esgbio/cb/organelles.html" TargetMode="External"/><Relationship Id="rId4" Type="http://schemas.openxmlformats.org/officeDocument/2006/relationships/hyperlink" Target="http://iip.ucsd.edu/Step/projects95/cellular.Organelles/WHY.HTM" TargetMode="External"/><Relationship Id="rId5" Type="http://schemas.openxmlformats.org/officeDocument/2006/relationships/hyperlink" Target="http://iip.ucsd.edu/Step/projects95/cellular.Organelles/CELLS.HTM" TargetMode="External"/><Relationship Id="rId6" Type="http://schemas.openxmlformats.org/officeDocument/2006/relationships/hyperlink" Target="http://www-class.unl.edu/bios201/group6/cytoskel.html" TargetMode="External"/><Relationship Id="rId7" Type="http://schemas.openxmlformats.org/officeDocument/2006/relationships/hyperlink" Target="http://www.bio.mtu.edu/campbell/eukaryot.htm" TargetMode="External"/><Relationship Id="rId8" Type="http://schemas.openxmlformats.org/officeDocument/2006/relationships/hyperlink" Target="http://www-class.unl.edu/bios201/group6/nucleus.html" TargetMode="External"/><Relationship Id="rId9" Type="http://schemas.openxmlformats.org/officeDocument/2006/relationships/hyperlink" Target="http://www-class.unl.edu/bios201/group6/lyso.html" TargetMode="External"/><Relationship Id="rId10" Type="http://schemas.openxmlformats.org/officeDocument/2006/relationships/hyperlink" Target="http://www-class.unl.edu/bios201/group6/er.html" TargetMode="External"/><Relationship Id="rId11" Type="http://schemas.openxmlformats.org/officeDocument/2006/relationships/hyperlink" Target="http://lenti.med.umn.edu/%7Emwd/back/cell_www/chapter2/ER.html" TargetMode="External"/><Relationship Id="rId12" Type="http://schemas.openxmlformats.org/officeDocument/2006/relationships/hyperlink" Target="http://www-class.unl.edu/bios201/group6/golgi.html" TargetMode="External"/><Relationship Id="rId13" Type="http://schemas.openxmlformats.org/officeDocument/2006/relationships/hyperlink" Target="http://www-class.unl.edu/bios201/group6/centrio.html" TargetMode="External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Comic Sans MS"/>
              </a:rPr>
              <a:t>The World of Cell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440" y="3047760"/>
            <a:ext cx="63896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coln Robi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Sample - EDU 22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. The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-27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Blood Cel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od ce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rythrocyte (red blood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ukocyte (white blood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rombocyte (platelet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igin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blood cells are created in bone m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em cells divide in the m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23880" y="3048120"/>
            <a:ext cx="5867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ite Blood Cel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Leucocyt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utrophils 40 - 7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ymphocytes 20 - 50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osinophils 5 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onocytes 1 - 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asophils 0.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3581280" cy="25876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410080" y="4572000"/>
            <a:ext cx="26672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Lymphocy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Make up a large part of the immune defense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Act in response to antigenic stimul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Are found in the bloodstream, lymphatic tissues and organs of the lymphatic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Consist of B and T cells, NK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 cells initiate Humoral i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nthesize and secrete antibo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ill off Bac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 cells initiate Cell-mediated i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crete cytok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ytolytic T cells automatically kill infected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ellsalive.com/antibody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Lymphocytes cont…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9880" y="3429000"/>
            <a:ext cx="4616640" cy="2678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57200" y="175248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tural Killer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ck antigen rece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gulate the production of blood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B Lymphocy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All B cell lymphocytes have a specific receptor for specific antigen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BCR is the unique protein that helps activate B cells, creates the specific binding sites, and allows B cells to recognize other lymphocyt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Helps neutralize the microb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Activates phagocyt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Macrophages are antigen presenting ce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resent antigens to B and T ce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Two main types of B ce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Memory ce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ormed from activated B cel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Longer life, ready to respond to repeated exposure to a particular antige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lasma cell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Larger B cells that secrete large amounts of antibod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ntibodies bind to microbes making them easier for phagocytes to attack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B Lymphocytes cont…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B cells can encounter the antigen when it is soluble (lymph or blood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Naive B cells are throughout the body at all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Secreting low levels of antibo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Activated by 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Many antigens are T-depend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Require the combination of B and T cells for “co-stimul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Activation of the highest level of antibody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9200" y="563868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ellsalive.com/antibody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dical game-plan”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sults from initially testing shows three large tumors pres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Each tumor is located within the lymphatic system, specifically on the lymph nod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sults from the blood work showed a decrease in the level of white blood cells, which is usual. The tests showed that the patients platelet level is way dow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I recommend an immediate platelet transfusion, and to keep a close watch on the status of white blood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These initial results are leading me to believe you will require stem cell transplant from a matching donor after you undergo radiation and chemotherapy to control the growth of present tum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I am going to create an official report and have all this report reviewed by our medical staff for second opinions. I will also make sure all Doctor’s have received a copy of  the results from your blood work and CAT sc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Referenc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cker, Kleinsmith, Harden. (2000)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e world of the cel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New York: Addison Wesley Longman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od: The river of life. 2001 July. Retrieved April 30, 2007 from the world wide web: http://library.thinkquest.org/C0115080/?c=w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cellsalive.com/cells/3dcel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cellsalive.com/cell_cycl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Cell Theory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"/>
              </a:rPr>
              <a:t>In 1824, Rene Dutrochet discovered that "the cell is the fundamental element in the structure of living bodies, forming both animals and plants through juxtaposition.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. all known living things are made up of cell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. the cell is structural &amp; functional unit of all living things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. all cells come from pre-existing cells by division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 (Spontaneous Generation does not occur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. cells contains hereditary information which is passed fro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   cell to cell during cell division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. All cells are basically the same in chemical composition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. all energy flow (metabolism &amp; biochemistry) of life occur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   within cell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CELL IS THE BASIC UNIT OF LIFE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ellsalive.com/cell_cycl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Prokaryotes vs. Eukaryo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1911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karyo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nuclear membrane (genetic material dispersed throughout cytoplas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membrane-bound organe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mple internal struc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st primitive type of cell (appeared about four billion years ag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7960" y="1719360"/>
            <a:ext cx="4267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ukaryo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membrane surrounding genetic mater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merous membrane-bound organe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lex internal struc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eared approximately one billion years 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248520" y="4952880"/>
            <a:ext cx="2011320" cy="1676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90920" y="4994280"/>
            <a:ext cx="17524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Intracellular Organell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48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cleu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membra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urrounds nucleu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two lay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Numerous openings for nuclear traff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ol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Spherical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Visible when cell is not divi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RNA for protein manufacture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romos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Usually in the form of chromat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genetic inform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DN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Thicken for cellular divis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et number per spec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.e. 23 pairs for human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400800" y="15238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1276560" cy="1276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162920" y="5105520"/>
            <a:ext cx="12762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791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ytoplas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ysoso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Digestive 'plant' for proteins, lipids, and carbohyd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Transports undigested material to cell membrane for remo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Vary in shape depending on process being carried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ell breaks down if lysosome explodes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loroplast (plant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 plastid usually found in plant cel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 green chlorophyll where photosynthesis takes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acuo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embrane-bound sacs for storage, digestion, and waste remo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water solu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actile vacuoles for water removal (in unicellular organis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248520" y="17524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620120" y="3200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477120" y="48769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ytoplas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mooth and Rough Endoplasmic Reticulum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Tubular network fused to nuclear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Goes through cytoplasm onto cell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tores, separates, and serves as cell's transport syste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mooth type: lacks ribos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Rough type (pictured): ribosomes embedded in 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ibos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ach cell contains thousan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iniature 'protein factories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s 25% of cell's ma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tationary type: embedded in rough endoplasmic reticulu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obile type: injects proteins directly into cytoplasm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ytoskelet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microtubu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upports cell and provides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Aids movement of materials in and out of cel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19920" y="169560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267600" y="512460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467480" y="3200400"/>
            <a:ext cx="12765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05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ytoplas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tochondri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Second largest organelle with unique genetic structur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Double-layered outer membrane with inner folds called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rista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nergy-producing chemical reactions take place on crista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ols level of water and other materials in cel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Recycles and decomposes proteins, fats, and carbohydrates, and forms u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ntrioles (animal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ired cylindrical organelles near 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nine tubes, each with three tub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Involved in cellular 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Lie at right angles to each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477120" y="4343400"/>
            <a:ext cx="1895400" cy="1895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9436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 Surf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 Wall (plant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ost commonly found in plant cel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ols turg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xtracellular structure surrounding plasma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Primary cell wall: extremely elast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econdary cell wall: forms around primary cell wall after growth is comple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 Membra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Outer membrane of cell that controls cellular traff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proteins (left, gray) that span through the membrane and allow passage of materia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Proteins are surrounded by a phospholipid bi-lay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cellsalive.com/cells/3dcell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7220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324480" y="434340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omic Sans MS"/>
              </a:rPr>
              <a:t>Intracellular Organelles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s to other resour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s and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life.uiuc.edu/bio100/lessons/cells_and_organelle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Insides of Cell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kauai.cudenver.edu:3010/0/nutrition.dir/organelle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ctures and Function of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esg-www.mit.edu:8001/esgbio/cb/organelle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y Are There Organelles?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http://iip.ucsd.edu/Step/projects95/cellular.Organelles/WHY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ular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http://iip.ucsd.edu/Step/projects95/cellular.Organelles/CELLS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crofilaments and Microtubules--The Cytoskeleton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http://www-class.unl.edu/bios201/group6/cytoskel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karyotic Cell Membrane or Plasma Membrane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http://www.bio.mtu.edu/campbell/eukaryot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ucleus, Nucleolus, Nuclear Envelope, and everything you ever wanted to know about DNA (but were afraid to ask)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http://www-class.unl.edu/bios201/group6/nucleu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ysosom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9"/>
              </a:rPr>
              <a:t>http://www-class.unl.edu/bios201/group6/lyso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ough and Smooth Endoplasmic Reticulum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0"/>
              </a:rPr>
              <a:t>http://www-class.unl.edu/bios201/group6/er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Endoplasmic Reticulum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1"/>
              </a:rPr>
              <a:t>http://lenti.med.umn.edu/~mwd/back/cell_www/chapter2/ER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olgi Bodi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2"/>
              </a:rPr>
              <a:t>http://www-class.unl.edu/bios201/group6/golgi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rio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3"/>
              </a:rPr>
              <a:t>http://www-class.unl.edu/bios201/group6/centrio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tochondri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-class.unl.edu/bios201/group6/mitochon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2:28:08Z</dcterms:created>
  <dc:creator>Lincoln</dc:creator>
  <dc:description/>
  <dc:language>en-US</dc:language>
  <cp:lastModifiedBy>Lincoln</cp:lastModifiedBy>
  <dcterms:modified xsi:type="dcterms:W3CDTF">2008-03-31T16:28:15Z</dcterms:modified>
  <cp:revision>57</cp:revision>
  <dc:subject/>
  <dc:title>The World of Cells</dc:title>
</cp:coreProperties>
</file>